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8FE-6217-4888-A428-59FBBAB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93C-6D17-4272-A354-F74EC2DA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860-8FB1-4E50-BC5F-607FF248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7C6-A088-4FBC-B354-9C48A6DD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FC1B-28EA-4FE8-814F-3D8F5204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1C2-FF1D-411A-B4E6-05AD68A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9875-C28A-4E65-803E-FFAFDE01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EEF4-E75B-4C41-922B-48B4FBD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12CA-692D-437E-B5BC-A0E934E8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BDC3-3830-4CCD-8D60-1889C8A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1D5-CAE5-4A63-8101-19CB5AA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905-A721-4CF7-ACC3-787EC6F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EAF3-7ECA-4EDA-8F0A-0C327F5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E4AF-01B8-426C-BABE-3467284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F298-AF16-45D4-9BA5-F0DE6065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D40-559B-4715-BE7D-199E58B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EB54-321B-4DF7-9D18-F2D3BBEB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DAFA-D246-4CD1-8C11-41E27ABA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2CDE-07C5-4053-9496-67E7E635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29B8-E797-445E-A404-36D7BC5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614C-D8B6-4355-94A3-D064192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06AF-5B8A-4331-91F4-D7FDBFE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7E5-E638-4628-B05E-F95A147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E737-7694-4D18-9F86-7E2D53C9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F887-6881-4933-84D6-D89E6DB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B292-8AD4-480B-B5A8-CE93F9E3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DA66-EAB7-4C68-B8E3-C9AC0641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16E7-0E52-4997-B6B6-FC13006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E0BD5-8BBE-4EAE-A4E7-752A7C85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5BA6-91B8-47D7-8E61-09C1166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ADA8-4A74-49E5-BAA6-ADFD2D47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1A0A-F05A-4E0C-B761-9E09A2E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24D8-053C-420E-A966-592E220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F83-299C-4E4B-BD94-ABDC4493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02A6-A201-4DDE-9B10-EE889EF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56B8-7B06-4745-86D3-89B7077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D211-8C2F-460D-A29E-705EFBE2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73DE-3EAC-4683-B432-762633D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DADA-5DA1-495C-9250-A92D937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9673-8772-47CE-86DD-4097967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53CE-6B94-4FF2-97B5-F0F71A30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BD28-EBF2-4A75-9C49-C26B371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101E-664D-477B-9E6E-4EC3801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A793-6513-4B72-9CF8-D0DBE384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43F-6292-4458-9351-2195A173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6CD6-DA02-40BB-A840-F3D86133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B897-2860-4DA7-A6DA-E29FCB0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C38B-4375-4A4F-889E-11BF21C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83F8-0F8E-4BED-BDF7-3FFD827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0253A-7322-42F7-822E-091F7535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BC316-28EC-41B8-87E9-3F62D50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99C7-31A8-4AC6-BE7F-8121989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8AE2-E2C9-45A4-B570-2397FC5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B20D-FD68-4973-9400-5A431282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A679-D338-4C01-84C9-C48B9817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04F-80E5-4DFA-942F-C2F6242A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8FBB-3114-4375-8279-59588E2D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949-FC52-4A22-8BA6-8D9F615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06D-494C-460D-8111-9709E7D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E09-AD64-4368-BEEC-0F7A4C5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2CA-DE7C-4F6A-AC8A-84B077B9D8DC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A5A0-C152-4A75-8CE3-8BB7D2DD49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B49-FDCC-4409-82DC-61811DD1D339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74A-9108-442B-8B96-94E8FFEDCA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989-55D5-4BD6-BBE3-0E2E90EB0D3E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BBD-424C-4C68-A881-53AFFA16A9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012-281B-4DD1-9E63-F9621D74CD14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00C-A449-481D-82AA-03ABF12F47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7FF8-3378-49E6-9455-F8E9658942A4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0F4A-D847-4F96-8374-F6F4DB0A8D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. 44 Warm-U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raw and label the parts of a nephr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at are the 4 main functions of a nephron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ere does each function in #2 above occur in a nephron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 the glomerulus, which substances are filtered? Which substances remain in the blood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Franklin Gothic Book"/>
              </a:rPr>
              <a:t>Nephrons</a:t>
            </a: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: functional units of the kidne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7" name="Content Placeholder 3" descr="44_14_bMamExcretorySys-L.jpg"/>
          <p:cNvPicPr/>
          <p:nvPr/>
        </p:nvPicPr>
        <p:blipFill>
          <a:blip r:embed="rId1"/>
          <a:stretch/>
        </p:blipFill>
        <p:spPr>
          <a:xfrm>
            <a:off x="609480" y="1219320"/>
            <a:ext cx="6924960" cy="5333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4800600" y="129528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lomerul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filtrate forced into Bowman’s caps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 cells and proteins DO NOT enter filt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wn Arrow 5"/>
          <p:cNvSpPr/>
          <p:nvPr/>
        </p:nvSpPr>
        <p:spPr>
          <a:xfrm flipH="1" rot="4140000">
            <a:off x="3593880" y="925560"/>
            <a:ext cx="279360" cy="2506680"/>
          </a:xfrm>
          <a:prstGeom prst="down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20340000"/>
          </a:gra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ing of blood filtrat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Proximal tubu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secretion &amp; reabsorption change volume and composition of filt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063800" indent="-51444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icarbonate, NaCl, water is absorb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escending loop of Hen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absorb wa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Ascending loop of Hen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absorb sal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istal tubu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NaCl levels regulat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Collecting duc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filtrate becomes more concentrated; minimize water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57200" y="2286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lood filtrate to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4" descr="44_15NephronCollectDuct-L.jpg"/>
          <p:cNvPicPr/>
          <p:nvPr/>
        </p:nvPicPr>
        <p:blipFill>
          <a:blip r:embed="rId1"/>
          <a:stretch/>
        </p:blipFill>
        <p:spPr>
          <a:xfrm>
            <a:off x="914400" y="853920"/>
            <a:ext cx="7324560" cy="58518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22860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3808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57150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7162920" y="5557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own Arrow 9"/>
          <p:cNvSpPr/>
          <p:nvPr/>
        </p:nvSpPr>
        <p:spPr>
          <a:xfrm rot="16994400">
            <a:off x="2401560" y="1508040"/>
            <a:ext cx="330480" cy="657000"/>
          </a:xfrm>
          <a:prstGeom prst="downArrow">
            <a:avLst>
              <a:gd name="adj1" fmla="val 50000"/>
              <a:gd name="adj2" fmla="val 4994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10"/>
          <p:cNvSpPr/>
          <p:nvPr/>
        </p:nvSpPr>
        <p:spPr>
          <a:xfrm rot="16994400">
            <a:off x="3709800" y="2842560"/>
            <a:ext cx="366840" cy="1649520"/>
          </a:xfrm>
          <a:prstGeom prst="downArrow">
            <a:avLst>
              <a:gd name="adj1" fmla="val 50000"/>
              <a:gd name="adj2" fmla="val 521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own Arrow 11"/>
          <p:cNvSpPr/>
          <p:nvPr/>
        </p:nvSpPr>
        <p:spPr>
          <a:xfrm rot="2675400">
            <a:off x="4919400" y="358920"/>
            <a:ext cx="366480" cy="1576080"/>
          </a:xfrm>
          <a:prstGeom prst="downArrow">
            <a:avLst>
              <a:gd name="adj1" fmla="val 50000"/>
              <a:gd name="adj2" fmla="val 521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12"/>
          <p:cNvSpPr/>
          <p:nvPr/>
        </p:nvSpPr>
        <p:spPr>
          <a:xfrm rot="5400000">
            <a:off x="6838200" y="5582520"/>
            <a:ext cx="396720" cy="357120"/>
          </a:xfrm>
          <a:prstGeom prst="downArrow">
            <a:avLst>
              <a:gd name="adj1" fmla="val 50000"/>
              <a:gd name="adj2" fmla="val 5212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own Arrow 13"/>
          <p:cNvSpPr/>
          <p:nvPr/>
        </p:nvSpPr>
        <p:spPr>
          <a:xfrm rot="12796800">
            <a:off x="3444480" y="2023920"/>
            <a:ext cx="314280" cy="1609920"/>
          </a:xfrm>
          <a:prstGeom prst="downArrow">
            <a:avLst>
              <a:gd name="adj1" fmla="val 50000"/>
              <a:gd name="adj2" fmla="val 5212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own Arrow 14"/>
          <p:cNvSpPr/>
          <p:nvPr/>
        </p:nvSpPr>
        <p:spPr>
          <a:xfrm rot="14351400">
            <a:off x="4310640" y="1316520"/>
            <a:ext cx="314280" cy="2941560"/>
          </a:xfrm>
          <a:prstGeom prst="downArrow">
            <a:avLst>
              <a:gd name="adj1" fmla="val 50000"/>
              <a:gd name="adj2" fmla="val 5212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960" y="12193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Antidiuretic Hormone (ADH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urine concentration, reduc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vasopress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Renin/angiotensin I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aise blood press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reabsorption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 retention, blood volume, press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Content Placeholder 5" descr="44_19ADHFluidReten_2-L.jpg"/>
          <p:cNvPicPr/>
          <p:nvPr/>
        </p:nvPicPr>
        <p:blipFill>
          <a:blip r:embed="rId1"/>
          <a:stretch/>
        </p:blipFill>
        <p:spPr>
          <a:xfrm>
            <a:off x="5181480" y="762120"/>
            <a:ext cx="3759480" cy="47656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rmon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44_22RAASRegulation_3-L.jpg"/>
          <p:cNvPicPr/>
          <p:nvPr/>
        </p:nvPicPr>
        <p:blipFill>
          <a:blip r:embed="rId1"/>
          <a:stretch/>
        </p:blipFill>
        <p:spPr>
          <a:xfrm>
            <a:off x="1682640" y="136440"/>
            <a:ext cx="5778720" cy="6585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152280" y="91440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lood Pressur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Content Placeholder 5" descr="44_14aMamExcretorySys-L.jpg"/>
          <p:cNvPicPr/>
          <p:nvPr/>
        </p:nvPicPr>
        <p:blipFill>
          <a:blip r:embed="rId1"/>
          <a:stretch/>
        </p:blipFill>
        <p:spPr>
          <a:xfrm>
            <a:off x="380880" y="533520"/>
            <a:ext cx="4538880" cy="5867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723920" y="3581280"/>
            <a:ext cx="4038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rine exits kidney through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ladder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: stores uri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Urethra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: urine exits bod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96464"/>
                </a:solidFill>
                <a:latin typeface="Franklin Gothic Book"/>
              </a:rPr>
              <a:t>Believe it or not…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r kidneys are only 4 in long and weigh about 5 oz (weight of ½ unfinished can of pop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ually we urinate 1.5-2.5 liters/da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44 gallons of blood is filtered by kidneys everyday-2 bathtubs fu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esh urine is cleaner than spit, cleaner than your hands after they have been washed and cleaner than the sandwich you will eat for lunc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andhi drank urine every day (Tantric Yoga practic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adiators brushed their teeth with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lonial housewives cleaned their home with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st football=pig bladd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Picture 3" descr="urine.jpg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urine comp.jpg"/>
          <p:cNvPicPr/>
          <p:nvPr/>
        </p:nvPicPr>
        <p:blipFill>
          <a:blip r:embed="rId2"/>
          <a:stretch/>
        </p:blipFill>
        <p:spPr>
          <a:xfrm>
            <a:off x="7162920" y="3962520"/>
            <a:ext cx="15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4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ntrolling the Internal Environ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you must k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categories of nitrogenous waste, which animal groups produce each, and wh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mponents of a nephron, and what occurs in each reg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hormones affect water balance by acting on the nephr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Osmoregulat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control solute concentrations and balance water gain/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Excret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moval of nitrogenous wastes from bod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ypes of Nitrogenous Wast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water soluble, very toxic; aquatic anima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Ure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produced by liver; less toxic, conserves water; most vertebrat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Uric aci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excreted as paste or crystals; birds &amp; repti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Nitrogenous Was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Content Placeholder 3" descr="44_08aNitrogenousWaste-L.jpg"/>
          <p:cNvPicPr/>
          <p:nvPr/>
        </p:nvPicPr>
        <p:blipFill>
          <a:blip r:embed="rId1"/>
          <a:stretch/>
        </p:blipFill>
        <p:spPr>
          <a:xfrm>
            <a:off x="1477800" y="1447920"/>
            <a:ext cx="664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arious forms of excretory syst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8" name="Content Placeholder 3" descr="44_11Protonephridia-L.jpg"/>
          <p:cNvPicPr/>
          <p:nvPr/>
        </p:nvPicPr>
        <p:blipFill>
          <a:blip r:embed="rId1"/>
          <a:stretch/>
        </p:blipFill>
        <p:spPr>
          <a:xfrm>
            <a:off x="457200" y="838080"/>
            <a:ext cx="4199040" cy="2046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8600" y="2895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onephridia  - Platyhelminthes (Plan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522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lpighian tubules – Insects, arthro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5867280" y="3276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tanephridia - Anne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943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dneys - Verteb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44_12Metanephridia-L.jpg"/>
          <p:cNvPicPr/>
          <p:nvPr/>
        </p:nvPicPr>
        <p:blipFill>
          <a:blip r:embed="rId2"/>
          <a:stretch/>
        </p:blipFill>
        <p:spPr>
          <a:xfrm>
            <a:off x="5334120" y="762120"/>
            <a:ext cx="3504960" cy="245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44_13Malpighian-L.jpg"/>
          <p:cNvPicPr/>
          <p:nvPr/>
        </p:nvPicPr>
        <p:blipFill>
          <a:blip r:embed="rId3"/>
          <a:stretch/>
        </p:blipFill>
        <p:spPr>
          <a:xfrm>
            <a:off x="990720" y="3352680"/>
            <a:ext cx="3200400" cy="295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44_14bMamExcretorySys-L.jpg"/>
          <p:cNvPicPr/>
          <p:nvPr/>
        </p:nvPicPr>
        <p:blipFill>
          <a:blip r:embed="rId4"/>
          <a:stretch/>
        </p:blipFill>
        <p:spPr>
          <a:xfrm>
            <a:off x="6324480" y="3809880"/>
            <a:ext cx="1731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east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Most Complex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56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onephridiu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closed tubes lacking an internal opening capped by a cellular unit called flame bulb. Urine passes out of small po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etanephridi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internal openings collect body fluids into a long tube surrounded by capillaries. Urine exits out po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alpighian tub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remove N waste from hemolymph, located near digestive tract.  Secretes dry waste with fec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Kidney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compact organs containing tubules surrounded by capillaries.  Functions in water and blood filtration, excretion of N waste and sal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7" descr="44_10ExcretoryFuncOvervw-L.jpg"/>
          <p:cNvPicPr/>
          <p:nvPr/>
        </p:nvPicPr>
        <p:blipFill>
          <a:blip r:embed="rId1"/>
          <a:stretch/>
        </p:blipFill>
        <p:spPr>
          <a:xfrm>
            <a:off x="228600" y="609480"/>
            <a:ext cx="4440240" cy="60548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0"/>
          <p:cNvSpPr/>
          <p:nvPr/>
        </p:nvSpPr>
        <p:spPr>
          <a:xfrm>
            <a:off x="4267080" y="111744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ater and solutes enter filtrate; blood cells and proteins remain in body f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24280" y="3124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claim glucose, vitamins,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2"/>
          <p:cNvSpPr/>
          <p:nvPr/>
        </p:nvSpPr>
        <p:spPr>
          <a:xfrm>
            <a:off x="4343400" y="4552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dd toxins and excess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4419720" y="5943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iltrate leaves body as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How to make urin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12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Mammalian Excretory Sys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5" name="Content Placeholder 3" descr="44_14_aMamExcretorySys-L.jpg"/>
          <p:cNvPicPr/>
          <p:nvPr/>
        </p:nvPicPr>
        <p:blipFill>
          <a:blip r:embed="rId1"/>
          <a:stretch/>
        </p:blipFill>
        <p:spPr>
          <a:xfrm>
            <a:off x="341280" y="2006640"/>
            <a:ext cx="86886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29:37Z</dcterms:created>
  <dc:creator>Jackie</dc:creator>
  <dc:description/>
  <dc:language>en-US</dc:language>
  <cp:lastModifiedBy>Chris Nancy Chou</cp:lastModifiedBy>
  <dcterms:modified xsi:type="dcterms:W3CDTF">2011-04-04T06:28:54Z</dcterms:modified>
  <cp:revision>38</cp:revision>
  <dc:subject/>
  <dc:title>Controlling the Internal Environment</dc:title>
</cp:coreProperties>
</file>